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gif" ContentType="image/gif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BE2-E08C-441B-8126-D6B25B84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D97-256E-4BDB-8899-C8C60585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44A-64B1-4D67-8B80-77C6D0AA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D3C-3157-4E56-8052-CE1C4DC9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3A0C-EFB7-48A8-9F5C-07B80951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1D0F-692E-46AF-9CB7-C2A9554E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1CE3-1FF2-457B-9166-086C0C30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9591-B335-4253-9FF5-CD30DDD8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0660-8EDD-4A24-84C9-130B400A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B273-9744-4036-AA5A-774EAB41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5026-68D2-42CD-B565-7EA4BA68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C6C-DB12-411D-AC84-1AEF16C0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D008-6948-4EA5-AB53-84693726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266F-6509-4FA4-8477-F199ECBE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2E43-77FE-4A5C-8835-792F959E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EC13-1E33-4954-8BB9-BAACCFB3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5A97-6079-42B4-8846-3057D2BF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6318-E418-49B5-B483-FA9BBC44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2A9-01B1-441E-A873-6EB3D065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D906-CF42-4F86-BC0A-CCFABF07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E1BA-01AC-4D43-966A-DE620C6D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6A6-1236-4732-A92A-E30722D5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0CD-707B-4A8F-969A-11EC41C3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3DC-805D-479F-8274-2E7E825A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828E-25C5-42F4-9624-8EF2C6CC8A73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7B71-EFCF-462C-AC56-9294F0F796E3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2349000"/>
            <a:ext cx="723924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Revoluțiile Epocii Moderne</a:t>
            </a:r>
            <a:br>
              <a:rPr sz="4000"/>
            </a:b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0" lang="ro-RO" sz="3200" spc="-1" strike="noStrike">
                <a:solidFill>
                  <a:srgbClr val="006666"/>
                </a:solidFill>
                <a:latin typeface="Arial"/>
              </a:rPr>
              <a:t>prof. Duca Teodor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33360"/>
            <a:ext cx="48956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Şcoala cu cls. I-VIII “ Pavel Dan”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Tritenii de Jo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Jud: Clu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1.Cauz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70160" y="1827360"/>
            <a:ext cx="348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taxa pe timbru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taxa pe cea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lipsa de reprezentare in Parlamentul englez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comert doar cu metropol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politica fiscala excesiv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contraban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7" descr="270px-13_colonies_in_1775_%28large%29"/>
          <p:cNvPicPr/>
          <p:nvPr/>
        </p:nvPicPr>
        <p:blipFill>
          <a:blip r:embed="rId1"/>
          <a:stretch/>
        </p:blipFill>
        <p:spPr>
          <a:xfrm>
            <a:off x="5494320" y="1827360"/>
            <a:ext cx="279720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stema anglia"/>
          <p:cNvPicPr/>
          <p:nvPr/>
        </p:nvPicPr>
        <p:blipFill>
          <a:blip r:embed="rId2"/>
          <a:stretch/>
        </p:blipFill>
        <p:spPr>
          <a:xfrm>
            <a:off x="6620040" y="1071720"/>
            <a:ext cx="19936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2.Prologul războiului-Partida de ceai de la Bost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11" descr="Boston_Tea_Party-Cooper"/>
          <p:cNvPicPr/>
          <p:nvPr/>
        </p:nvPicPr>
        <p:blipFill>
          <a:blip r:embed="rId1"/>
          <a:stretch/>
        </p:blipFill>
        <p:spPr>
          <a:xfrm>
            <a:off x="5102280" y="2000160"/>
            <a:ext cx="3581280" cy="392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partida ceai"/>
          <p:cNvPicPr/>
          <p:nvPr/>
        </p:nvPicPr>
        <p:blipFill>
          <a:blip r:embed="rId2"/>
          <a:stretch/>
        </p:blipFill>
        <p:spPr>
          <a:xfrm>
            <a:off x="1370160" y="2000160"/>
            <a:ext cx="3579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3.Declarația de independenț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320" y="2000160"/>
            <a:ext cx="414324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rezentanţii celor 13 colonii se reunesc într-un nou congres la Phiadelphia. La 4 iulie 1776 este adoptată “Declaraţia de independenţă”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document redactat de Thomas Jeff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drapeau07"/>
          <p:cNvPicPr/>
          <p:nvPr/>
        </p:nvPicPr>
        <p:blipFill>
          <a:blip r:embed="rId1"/>
          <a:stretch/>
        </p:blipFill>
        <p:spPr>
          <a:xfrm>
            <a:off x="6629400" y="304920"/>
            <a:ext cx="2286000" cy="1269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Declaration_independence"/>
          <p:cNvPicPr/>
          <p:nvPr/>
        </p:nvPicPr>
        <p:blipFill>
          <a:blip r:embed="rId2"/>
          <a:stretch/>
        </p:blipFill>
        <p:spPr>
          <a:xfrm>
            <a:off x="5102280" y="2000160"/>
            <a:ext cx="3827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4.Desfasurarea si sfarsitul razboiulu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28800" y="1827360"/>
            <a:ext cx="402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În 1781, în bătălia de la Yorktown, armatele americane şi franceze obţi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 victorie decisiv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În 1783 s-a încheiat tratatul de pace de la Versailles, prin care Anglia recunoaşte independenţa fostelor colon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8" descr="280px-Yorktown80"/>
          <p:cNvPicPr/>
          <p:nvPr/>
        </p:nvPicPr>
        <p:blipFill>
          <a:blip r:embed="rId1"/>
          <a:stretch/>
        </p:blipFill>
        <p:spPr>
          <a:xfrm>
            <a:off x="5214960" y="4357800"/>
            <a:ext cx="3071880" cy="250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yorktown_map"/>
          <p:cNvPicPr/>
          <p:nvPr/>
        </p:nvPicPr>
        <p:blipFill>
          <a:blip r:embed="rId2"/>
          <a:stretch/>
        </p:blipFill>
        <p:spPr>
          <a:xfrm>
            <a:off x="5214960" y="1571760"/>
            <a:ext cx="3068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Revoluția Franceză</a:t>
            </a:r>
            <a:br>
              <a:rPr sz="3600"/>
            </a:b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1.Cauz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57480" y="1827360"/>
            <a:ext cx="407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ozi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a sistemului politic francez fa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ă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e ideile iluministe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adic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a dintre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cercarea de uniformizare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treprins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e stat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ș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 existen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ociet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i de ranguri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rghezia nu particip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a via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public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riza financiar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;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maju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Content Placeholder 4" descr="exprimarea unui principiul al revolutiei- libertatea"/>
          <p:cNvPicPr/>
          <p:nvPr/>
        </p:nvPicPr>
        <p:blipFill>
          <a:blip r:embed="rId1"/>
          <a:stretch/>
        </p:blipFill>
        <p:spPr>
          <a:xfrm>
            <a:off x="1428840" y="1857240"/>
            <a:ext cx="3286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2.Etap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ele Ludovic al XVI-lea convoaca Adunarea Starilor Generale - 5 mai 1789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reprezentantii starii a III-a se declara Adunare Nationala Constitua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regele a mobilizat armata pentru a dizolva Adunarea, dar populatia Parisului se opune, ridicandu-se la lupta si formand Garda Nationa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4 IULIE 1789 –caderea BASTILIEI, inchisoarea politica a Frantei (astazi este Ziua Nationala a Frante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Content Placeholder 4" descr="caderea bastiliei"/>
          <p:cNvPicPr/>
          <p:nvPr/>
        </p:nvPicPr>
        <p:blipFill>
          <a:blip r:embed="rId1"/>
          <a:stretch/>
        </p:blipFill>
        <p:spPr>
          <a:xfrm>
            <a:off x="5114880" y="2000160"/>
            <a:ext cx="3556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3.Monarhia Constitutionala si Republic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85520" y="1827360"/>
            <a:ext cx="416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6 august 1789 –se adopta “Declaratia Drepturilor Omului si Cetateanului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unarea Legislativa devine Conventie Nationala si aceasta proclama REPUBL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e 2 orientari: Iacobinii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 Girondin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Content Placeholder 4" descr="-Declaration_of_Human_Rights"/>
          <p:cNvPicPr/>
          <p:nvPr/>
        </p:nvPicPr>
        <p:blipFill>
          <a:blip r:embed="rId1"/>
          <a:stretch/>
        </p:blipFill>
        <p:spPr>
          <a:xfrm>
            <a:off x="4857840" y="1643040"/>
            <a:ext cx="3929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Evalu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Pe parcursul proiectului, prin fişe de evaluare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Evaluarea sumativă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iecte şi portofol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Bibliografie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71720" y="1571760"/>
            <a:ext cx="761184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Manua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Liviu Burlec, Liviu Lazăr, Bogdan Teodorescu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Istorie, manual pentru clasa a VI-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Editura All,199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NDREI Pippidi, Monica Dvorski, Ioan Grosu,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Istorie, manual pentru clasa  a VI-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Editura Corint, 2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Lucrări tipărit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Helie Jerome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Mic atlas istoric al Timpurilor moderne,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olirom,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lmas, Dumitru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derea Bastilie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Bucuresti, 195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Berstein Serge, Milza Pierre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Istoria Europe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vol. 3, Iasi, Institutul European, 199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Internet(Site-uri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 u="sng">
                <a:solidFill>
                  <a:srgbClr val="000000"/>
                </a:solidFill>
                <a:uFillTx/>
                <a:latin typeface="Arial"/>
              </a:rPr>
              <a:t>http://www.e-scoala.ro/informatica/index.html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http://ro.wikipedia.org/wiki/Portal:Educaţie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www.didactic.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referat</a:t>
            </a:r>
            <a:r>
              <a:rPr b="0" lang="ro-RO" sz="1600" spc="-1" strike="noStrike" u="sng">
                <a:solidFill>
                  <a:srgbClr val="000000"/>
                </a:solidFill>
                <a:uFillTx/>
                <a:latin typeface="Arial"/>
              </a:rPr>
              <a:t>e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o/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Ce este o revoluție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71400"/>
            <a:ext cx="5000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Revoluți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ste un proces istoric prin care se schimbă sistemul de guvernare și structurile economice ale statul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aracteristic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untarea la absolutism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arhi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dernizarea sistemului politi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temeiere  natiunii  sub influenta Iluminismul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ciparea individului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formarea lui d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up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tatean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Content Placeholder 7" descr="300px-Reception_of_the_American_Loyalists"/>
          <p:cNvPicPr/>
          <p:nvPr/>
        </p:nvPicPr>
        <p:blipFill>
          <a:blip r:embed="rId1"/>
          <a:stretch/>
        </p:blipFill>
        <p:spPr>
          <a:xfrm>
            <a:off x="5072040" y="1714680"/>
            <a:ext cx="38577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Revoluția engleză</a:t>
            </a:r>
            <a:br>
              <a:rPr sz="3600"/>
            </a:br>
            <a:r>
              <a:rPr b="0" lang="ro-RO" sz="2400" spc="-1" strike="noStrike">
                <a:solidFill>
                  <a:srgbClr val="8ab9b9"/>
                </a:solidFill>
                <a:latin typeface="Arial"/>
              </a:rPr>
              <a:t>1.Cauze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85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flict religios și politi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tre Rege și Parlamen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8ab9b9"/>
                </a:solidFill>
                <a:latin typeface="Arial"/>
              </a:rPr>
              <a:t>Cauza imediat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azboaiele secatuiesc vistier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ngliei.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Regele Carol I Stuar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s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nevoit să convoac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rlamentul,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pentru a vota noi impozit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Parlamentarii refuză noile impozit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şi impun regelui să semneze Petiţ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dreptului (1628)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Regele semneaz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ctul, dar în scurt timp dizolv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rlamentu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2" descr="http://upload.wikimedia.org/wikipedia/commons/thumb/2/25/Karl_I_av_England%2C_m%C3%A5lning_av_Anthonis_van_Dyck_fr%C3%A5n_1632.jpg/200px-Karl_I_av_England%2C_m%C3%A5lning_av_Anthonis_van_Dyck_fr%C3%A5n_1632.jpg"/>
          <p:cNvPicPr/>
          <p:nvPr/>
        </p:nvPicPr>
        <p:blipFill>
          <a:blip r:embed="rId1"/>
          <a:stretch/>
        </p:blipFill>
        <p:spPr>
          <a:xfrm>
            <a:off x="5214960" y="2000160"/>
            <a:ext cx="2714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2. Desfașurarea Revoluție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Verdana"/>
              </a:rPr>
              <a:t>Faza Parlamentar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Verdana"/>
              </a:rPr>
              <a:t>Războiul civil Rege-Parla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FFA8818C"/>
          <p:cNvPicPr/>
          <p:nvPr/>
        </p:nvPicPr>
        <p:blipFill>
          <a:blip r:embed="rId1"/>
          <a:stretch/>
        </p:blipFill>
        <p:spPr>
          <a:xfrm>
            <a:off x="1357200" y="1857240"/>
            <a:ext cx="3571920" cy="4071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85560" y="356760"/>
            <a:ext cx="73134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3.Republica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5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</a:rPr>
              <a:t>n 1649 se proclamă Republica, în care puterea legislativă aparţinea Parlamentului, iar cea executivă unui Consiliu de stat, format din 40 de membri, dar în care Oliver Cromwell avea rolul hotărât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</a:rPr>
              <a:t>În plan extern, Parlamentul cel Lung şi Consiliul de Stat au elaborat o serie de măsuri care vizau cucerirea unor teritorii (Scoţia şi Irlanda). S-a organizat o campanie militară împotriva revoltei catolicilor irlandezi şi una împotriva încercării scoţienilor de a-l impune pe fiul lui Carol ca reg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</a:rPr>
              <a:t>Parlamentul dorind să consolideze poziţia burgheziei engleze, va adopta aşezăminte care vizau comerţul şi navigaţia. Astfel, în 1651, adoptă Actul de navigaţie, prin care se proclam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ă 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</a:rPr>
              <a:t>monopolul de stat asupra tuturor importurilor, ceea ce punea capăt primatului olandez în comerţul maritim spre Angl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4.Protectoratu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3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vi-VN" sz="2000" spc="-1" strike="noStrike">
                <a:solidFill>
                  <a:srgbClr val="000000"/>
                </a:solidFill>
                <a:latin typeface="Verdana"/>
              </a:rPr>
              <a:t>Cromwell îşi impune, treptat, autoritatea, culminând cu dizolvarea "Parlamentului cel Lung" (1653) şi promulgarea a diferite instrumente de guvernare prin care se instituia în Anglia o dictatură militară numită protectorat. Puterea executivă a fost încredinţată lordului protector Oliver Cromwell şi unui Consiliu format din 21 de membri. Puterea legislativă a aparţinut lordului protector şi parlamentului unicameral. Dreptul la vot rămâne cenzitar; catolicii şi regaliştii au fost excluşi din viaţa politic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8ab9b9"/>
                </a:solidFill>
                <a:latin typeface="Arial"/>
              </a:rPr>
              <a:t>5.Restauratia Stuartil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Restauraţia stuarţilor a apărut ca o soluţie acceptabilă atât pentru burghezie cât şi pentru mare parte a nobilimi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În perioada 1660 - 1688, cât a dur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estauraţia, pe tronul Angliei s-au succedat Carol al II-lea Stuart (1660 - 1685) şi Iacob al II-lea Stuart (1685 - 1688 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6.Revolutia glorioasa</a:t>
            </a: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2" descr="Imagine:William III of England.jpg"/>
          <p:cNvPicPr/>
          <p:nvPr/>
        </p:nvPicPr>
        <p:blipFill>
          <a:blip r:embed="rId1"/>
          <a:stretch/>
        </p:blipFill>
        <p:spPr>
          <a:xfrm>
            <a:off x="6143760" y="2000160"/>
            <a:ext cx="2857320" cy="44290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785880" y="178596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Instalarea în nov. 1688 ca regent al Angliei, fără nici un fel de incident, a lui Wilhelm al III-lea de Orania-Nassau a intrat în istorie sub numele de ,,Revoluţia glorioasă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000080" y="33577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Revoluţia engleză a impus în lume modelul monarhiei constituţionale (nota bene: Anglia nu are o constituţie, în înţelesul modern al cuvântului, ci un pachet de legi care practic fac cât o constituţie, de aceea o numim monarhie parlamentară), bazată pe principiul separării puterilor în s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Revolutia american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 perioada 1584-1733, pe coasta răsăriteană a Americii de Nord s-au intemeiat 13 colonii populate cu europeni proveniţi din vestul Europei. Treptat, toate aceste colonii intră sub stăpânire englez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7" descr="Map_of_territorial_growth_1775"/>
          <p:cNvPicPr/>
          <p:nvPr/>
        </p:nvPicPr>
        <p:blipFill>
          <a:blip r:embed="rId1"/>
          <a:stretch/>
        </p:blipFill>
        <p:spPr>
          <a:xfrm>
            <a:off x="5299200" y="1827360"/>
            <a:ext cx="3187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5:25:52Z</dcterms:created>
  <dc:creator>Teo</dc:creator>
  <dc:description/>
  <dc:language>en-US</dc:language>
  <cp:lastModifiedBy>Alexandra</cp:lastModifiedBy>
  <dcterms:modified xsi:type="dcterms:W3CDTF">2010-05-25T17:34:02Z</dcterms:modified>
  <cp:revision>23</cp:revision>
  <dc:subject/>
  <dc:title>Fenomene termice</dc:title>
</cp:coreProperties>
</file>